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289B9E-4DC2-44D2-B404-E643069D4B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58DCD7-B273-402E-A182-1079248EBA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A Constitution establishes who has power and how that power is exercis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69C756-D3C0-41CD-8C50-D10E622C42A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F8323A-8FD3-4B96-8D89-91819905E72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FB20-40F4-4837-B318-B683C38BD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2B5F-1067-40D8-B6C1-D1C90E03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3E5E-FC04-49D7-877E-BB824BD63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0D49-8FCA-44A8-9E2F-8CE1F5FC9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C49E-5E8B-478F-B171-FFD63D2C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649A-1B98-4621-8467-2A242FEA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C353-6B23-434A-B9BA-FBC3206D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4747-D213-40AA-A993-5D8503A6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5381-0E80-4D54-9BFF-3F680570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E318-5917-4B68-ABA7-1AFEC6D9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231D-7A2A-4A7A-9512-D60DA004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D7C4-C864-4073-B7D8-E58870AB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189B7B-CE59-477D-92D1-CA380EB9FFB0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DCCE63-324D-47A8-9E4B-A36CD295E70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istory.com/shows/america-the-story-of-us/videos/declaration-of-independence#declaration-of-independenc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5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Origins of the Constitu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656320"/>
            <a:ext cx="6400800" cy="85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Chapter 2 – The Constitution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pp. 31-37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1866960" y="1638360"/>
            <a:ext cx="54100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Constitution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79360" y="1600200"/>
            <a:ext cx="502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stitu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 nation’s basic law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unc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reates political institution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llocates power within govern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vides guarantees to citizen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5575320" y="1417680"/>
            <a:ext cx="3111480" cy="287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3"/>
          <a:stretch/>
        </p:blipFill>
        <p:spPr>
          <a:xfrm>
            <a:off x="6450120" y="4489560"/>
            <a:ext cx="1739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English Heritag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ad Chapter IX from John Locke’s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Second Treatise of Civil Governmen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. Answer these questions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Why do men agree to be governed?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What is the chief aim of government?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Explain the three defects/wants that exist in a state of nature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What powers does man have in a state of nature?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What limits should be placed on governments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Declaration of Independence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ad the text of the Declaration of Independence on pp. 704-706 and answer the following question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at reasons for independence were offered in the Declaration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at were some of the specific grievances of King George listed in the Declaration?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America: The Story of Us Video Clip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2043000" y="57783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inning Independence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4667040"/>
            <a:ext cx="8229600" cy="123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I am well aware of the toil, blood, and treasure that it will cost us to maintain this Declaration, and support and defend these state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.” – John Adam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2338560" y="1417680"/>
            <a:ext cx="46591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9:07:22Z</dcterms:created>
  <dc:creator>Katie Madison</dc:creator>
  <dc:description/>
  <dc:language>en-US</dc:language>
  <cp:lastModifiedBy>FAdmin</cp:lastModifiedBy>
  <dcterms:modified xsi:type="dcterms:W3CDTF">2011-08-29T14:32:41Z</dcterms:modified>
  <cp:revision>5</cp:revision>
  <dc:subject/>
  <dc:title>The Origins of the Constitution</dc:title>
</cp:coreProperties>
</file>